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711-46CD-4765-863D-DECED381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94C-C0B7-4716-B21D-43971FDC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A43-135C-4372-95F7-083CE5CF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C6C-80D4-4D03-AC8F-F9E7BEFA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CE8-BDFB-4F51-97F7-59712B98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194-8761-40F9-8DD3-7C57A8EC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697-C230-498C-A21B-085FC164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C6B-3A7D-4907-A175-EAF633E4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442-0C08-4836-BF62-0052C97F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3F9-1819-4644-8FE8-A2FB0A1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4D9-F03C-42C4-96AA-61537D4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1CD-C897-4175-942D-CDD75E7F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3A29-3A93-4A86-BC69-DB1BF58D9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Using FTD 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the Marketing Offe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execution of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and time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to both customers and recip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50 pre-built letter, postcard and email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aig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let’s show you have to run a few campa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i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a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4:25:45Z</dcterms:created>
  <dc:creator>MTAC3740</dc:creator>
  <dc:description/>
  <dc:language>en-US</dc:language>
  <cp:lastModifiedBy>MTAC3740</cp:lastModifiedBy>
  <dcterms:modified xsi:type="dcterms:W3CDTF">2008-09-12T14:56:44Z</dcterms:modified>
  <cp:revision>2</cp:revision>
  <dc:subject/>
  <dc:title>Slide 1</dc:title>
</cp:coreProperties>
</file>